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42B-090D-4282-B359-377D511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331-FA93-475B-B5E7-4B4871FD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7D4-DE48-44B7-BC42-4E684C21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B10-F05F-4D4D-BE8F-29001E80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7C8C-01DB-4C1D-986F-718C6F8C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CF3-E686-4274-A04E-7323333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A659-738F-473F-B84A-1827F5B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26C8-5FFB-4C16-BB77-D98C224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3F1-F822-4534-BC38-25AD9226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F52E-070E-4FD7-9F2E-E06BB696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C8C-6D83-4557-84D1-FA59937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0C6-907C-409F-91C9-B082CD7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807-29A9-471D-82AF-8B4DFE2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3D43-019D-4A40-8084-D3B177D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BB2-B79D-4724-A49A-2DA93C8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ADB-0F68-4077-9BB7-36C52E32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2ADD-B3EF-4BF8-9E57-6943F882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A47-A8EA-4B5D-8706-97981100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97A-BA26-4428-B52C-863A0787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8A0-D158-4B71-A47B-B075CF3B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096-B7FC-407E-B40A-714CB28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B1E-DA21-4DC5-B6A2-3A8C67E0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FEC-D78B-4A3F-B87C-BA552480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ED5-E6FE-4EFE-B320-C9825C6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7AC-A10C-4B6B-92B0-CD6CE785C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4615-647F-4DE1-B737-3533EC4CC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ee320c"/>
                </a:solidFill>
                <a:latin typeface="Times New Roman"/>
              </a:rPr>
              <a:t>Эталондар және олардың жіктелуі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Екінші ретт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эталон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йкес физ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шаманы алғашқы эталонмен салыстыру жолымен алынатын бірлік мөлшерін с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йды. Екінші ретті эталон салыстырып тексеру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тарын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жет болған жағдайда, сондай-ақ мемлекеттік эталонның тез тозуғ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ырамауы үшін жасалады және бекітіл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рологиялық арнаулылығы бойынша екінші ретті эталондардың түрлері: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салыстыру эталон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бе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ілі бір себептермен бір-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і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імен тікелей салыстырыла алмайтын жағдайларда эталондарды салыстыру үшін пайдаланылады;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эталон-көшірм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е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 бірлік мөлшерін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шы эталондарға беруге арналған. Ол аағашқы немесе арнаулы эталонды уақытынан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ын тозуынан с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у мақсатында көптеген салыстырып тексерулер жасау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жеттілігі туындағанда әзірленеді. Эталон-көшірме 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арнаулылығы бойынша мемлекетгік эталонның көшірмесі болып табылады;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эталон-куәгер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– мемлекеттік эталонн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ң са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лғандығын ж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 өзгермегендігін тексеруге және оны б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зылған кезде алмастыруға арналған;</a:t>
            </a:r>
            <a:br>
              <a:rPr sz="4400"/>
            </a:b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ж</a:t>
            </a:r>
            <a:r>
              <a:rPr b="1" lang="kk-KZ" sz="44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мысшы эталон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ірлік мөлшерін ж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ысшы өлшем қ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лдарына беру үшін арналған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Ең алғаш ресми бекітілген эталондар метр мен килограмның үлгілері болды, олар Францияда жасалды және 1799 жылы Францияның Ұлттық Архивіне сақтауға берілді. Сондықтан оларды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«Мұрағат метрі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және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«Мұрағат килограмы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деп атай бастады.</a:t>
            </a:r>
            <a:r>
              <a:rPr b="1" lang="kk-KZ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872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жылдан бастап килограмм «Мұрағат килограмға» тең масса деп анықтала бастады.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И Х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ралық жүйесіні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бір негізгі немесе туынды бірліктер эталонының өзіндік қыз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 тарихы бар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олар күрделі ғылыми-зерттеулермен және эксперименттермен байланыст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алы, 1791 жылы Франция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тт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иналысы қабылдаған, париждік меридианның төрттен бір доғасының он миллионнан бір бөлігіне тең метр эталонын 1837 жыл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йта қарастыру тура келді. Фра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з ғалымдары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ғандай, меридианның төрттен бір бөлігінде 10 млн. емес, 10 млн. 856 метр бар екен. Сондай-ақ, Жердің мөлшері мен пішіні үнемі өзгеріп отыратыны белгілі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ыған байланысты 1872 жыл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анкт-Петербург Ғылым академиясының ғалымдары метр эталонына өзгерістер енгізу туралы мәселені шешу үшін халықар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комиссия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ды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ынды. Комиссия жаңа эталонды жасамай-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, Францияда сақталынған «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ғат метрді»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ындықтың бастапқы бірлігі ретінде қабылдауды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75 жылы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трлік конвенция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былданды, оған Ресей 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йды. Бұл жылды метрологтар метрдің негізгі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ындың бірлігі ретінде екінші рет туылуы деп санайды. XX ғасырда (1967 ж) париждік меридианның дәлірек өлшемдері жар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көрді, ол 10 млн. 1954,4 метрд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ұрады. Осылайша «Мұрағат метрі» меридиандың метрден 0,2 мм-г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болып ш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89 жылы платинді-иридилі ерітіндіден метр эта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ының 31 данасы жасалды. Олардан №6 эталон 0°С температурада «Мүрағат метрі» ұзындығына сәйкес келді. Осы эталон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ы Өлшемдер мен салм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р бойынша I Бас конференцияның шешімімен метрдің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эталоны ретінде бекітілді жә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Севр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асында (Франция) с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лады.</a:t>
            </a: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Эталон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мөлшерлерін өлшемнің басқа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а беру мақсатында шама бірлігін жаңғырту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сақтау үшін пайдаланылатын аса дәл өлшем. Эталоннан шама бірлігі разрядты эталондарға беріледі, ал олардан - өлшеудің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шы қүралдарына беріл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рдің платинді-иридилі эталонының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телігі +1,1∙10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-7 м XX ғасырдың басында 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ағаттанарл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ыз деп бағаланған. 1960 жылы Өлшемдер мен салма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р бойынша XI Бас конференция метрдің жаңа ан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масын ұсынды. Метр ан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масы атомдар с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леленуінің спектральд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сыз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рының тол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ын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ындығы т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ылығына негізделген. Жар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көзі ретінде криптондың эталон алынған. Криптондың эталонның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телігі платинді-иридиліге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рағанда кем және 5∙10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-9 м тең болд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і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дәлд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 жеткіліксіз болып ш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, ал ғылымның жаңа жетістіктері 1983 жылы метрдің жаңа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масы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былдауға мүмкіндік берді (XXII Бас конференцияда). Оған сәйкес метр-вакуумдағы жар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ң 1/299792458 үлес секундта жүріп өтетін жо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ындығы. Осы конференцияда жар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ылдамдығының н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 мәні жариялан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асса бірлігі эталонының тарихы да өт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з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. 1872 жылы масса эталоны ретін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былданған «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ғат килограмы» биіктігі мен диаметрі 39 мм-ге тең платинді цилиндр кір болды. Тәжірибе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дану үшін үлгілер (екінші эталондар) платинді-иридилі ерітіндіден жасалынды. Килограмның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қ үлгісі ретіаде платинді-ириднлі кір қабылданды, ол дәлдігі бойызша «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ғат ки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рамына» көбірек 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кес келді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асса бірлігі эталонының тарихы да өт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з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. 1872 жылы масса эталоны ретін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былданған «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ғат килограмы» биіктігі мен диаметрі 39 мм-ге тең платинді цилиндр кір болды. Тәжірибе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дану үшін үлгілер (екінші эталондар) платинді-иридилі ерітіндіден жасалынды. Килограмның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қ үлгісі ретіаде платинді-ириднлі кір қабылданды, ол дәлдігі бойызша «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ғат ки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рамына» көбірек 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кес келді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Эталондар алғашқы, екінші ретті және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шы болып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ктеледі.       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Алғашқы этало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ғылыми-техникалық жетістіктердің қазіргі деңгейінде өлшеулердің осы саласында мүмкін болатын ең жоғарғы дәлдікпен физикалық шама бірлігін с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йтын эталон. Алғашқы эталон үлт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 (мемлекеттік) және халықаралық болуьі мүмкін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Арнайы эталон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алғаш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 эталоннан бірлік мөлшерін тікелей беру қажетті дәлдікте жүзеге асырылуы мүмкін емес ерекше жағдайларда бірлікті жаңғыртуды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мтамасыз етеді және осы жағдайларда алғашқы этало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ін атқар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лттық эталонд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ел үшін метрология бойынш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ттық орган өлшемнің бастапқы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үралы ретінде бекітеді. Қазаңстанда үлттық эталондарды ҚР Техникңалық реттеу және метрология комитеті бекітеді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Халықаралық эталонд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дер мен салмақтардың халықаралың бюросы (ӨСХБ) жасайды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қолдап отырады. ӨСХБ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зметінің маңызды міндеті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 түрлі елдердің ірі метрологиял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зертханала-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тт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эталондарын х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ралық эталондармен салыстыру, сондай-ақ оларды өзара салыстыру болып табы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И жүйесінің негізгі шамалары да, туынды шамалары да салыстырылады. Салыстырудың белгілі бір мерзімдері ан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ған. Мысалы, метр және килограмм эталондары әрбір 25 жыл сайын, ал электрлік жөне жарықтың эталондар - 3 жылда бір рет салыстыры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лғашқ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лонға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ж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ысш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(разрядты)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ән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екінш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эталондар бағынады. 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Ж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ысшы эталонда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бірліктің өлшемдерін екінші эталондардан қабылдайды және өз кезегінде өлшемнің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шы қүралдарына өлшемді беру үші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лданы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Екінші эталондардың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бейнелейтін бірліктерінің өлшемдері мемлекеттік эталонмен келісіледі. Екінші эталондарды ҚР Техникалық  реттеу және метрология комитеті немесе мемлекеттік ғылыми метрологиялық орт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р бекітуі мүмкін.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1T09:08:0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